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200-30F5-48C1-A465-36140FC4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10E-9F7B-4AE8-BAA2-E60714F0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156-39E3-4EC8-9573-EB00CDBA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EAD-EA35-4719-A380-5179217D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A21-37B1-441C-B3AA-E2018171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E3D-CDC6-465C-8BBD-91D4FA72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47E-1EB7-4ED5-B797-32730D5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A83-E1F1-49B2-B5DF-EA54093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69D-6E73-431D-BEFF-9F8FAF1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1D2-F99A-4E12-8043-16BF144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90A-BAEF-4251-AF23-ACC8F90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0C0-F4F6-46F5-BD89-AA3D81C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1FE-8906-46DA-8B6D-1E9BB297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Alfredo 3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job!  Great platform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-written…Nice work here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impressive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27:36Z</dcterms:created>
  <dc:creator>nbdoe</dc:creator>
  <dc:description/>
  <dc:language>en-US</dc:language>
  <cp:lastModifiedBy>nbdoe</cp:lastModifiedBy>
  <dcterms:modified xsi:type="dcterms:W3CDTF">2007-05-11T13:27:42Z</dcterms:modified>
  <cp:revision>1</cp:revision>
  <dc:subject/>
  <dc:title>Election 2007</dc:title>
</cp:coreProperties>
</file>